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8EF-3F2A-4EA7-9DAF-E8834AFAE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9965-E00C-4A77-B17B-A2E077A4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7107-0485-4BFE-80EE-05EFE6AD1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88DF-1F97-436A-831E-9CDD8716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F368-BAE6-4E66-8475-F06A0B9B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4C0-C76B-4758-AF87-8B314F08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5E1-78CF-4819-95AA-D4F9C7FD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1CA4-CCF6-4E44-97BD-BDD324EE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6DF9-274E-4F93-86E5-A015CDE9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925-0D0C-4D69-9608-8BDB5819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F33-9113-4BE1-B892-7AE158D2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B5E7-AFF9-40F7-B389-B79E220A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8F36-3178-4768-83EC-DE7E5133801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04440" y="404640"/>
            <a:ext cx="36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스마트폰 일반카드 결제 샘플 가이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안드로이드 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11280" y="1628640"/>
          <a:ext cx="7993080" cy="4543560"/>
        </p:xfrm>
        <a:graphic>
          <a:graphicData uri="http://schemas.openxmlformats.org/drawingml/2006/table">
            <a:tbl>
              <a:tblPr/>
              <a:tblGrid>
                <a:gridCol w="1800000"/>
                <a:gridCol w="619308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ple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역변수를 사용하기 위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플 처음 실행시 시작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결제와 계좌이체 결제를 선택할 수 있도록 되어있습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Demo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결제를 담당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페이지를 호출하여 결제가 카드결제가 진행되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IS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과 같은 을 제어한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ntPayDemo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계좌이체 결제를 담당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sultRcv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른 앱에서 되돌아올 때 호출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마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sample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으로 호출됩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퍼미션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RNET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만 선언되었으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안드로이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K 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버전으로 개발되었습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21"/>
          <p:cNvSpPr/>
          <p:nvPr/>
        </p:nvSpPr>
        <p:spPr>
          <a:xfrm>
            <a:off x="513000" y="976320"/>
            <a:ext cx="27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ndroidManifest.xm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2560" y="847800"/>
          <a:ext cx="7993080" cy="571032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 상세설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Creat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ebView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옵션을 설정하고 업체 주문페이지를 호출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eb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사용하는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옵션기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avePassword(fals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웹페이지 비밀번호 자동저장 하지 않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avaScriptEnabled(tru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자바스크립트 허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avaScriptCanOpenWindowsAutomatically(tru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자바스크립트를 이용하여 윈도우를 새로 열수 있도록 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Bridge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실행하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설치 되어있지 않으면 설치하도록 유도를 하는 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PinInfoBridg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설치 및 실행을 유도하는 클레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PinReturn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어플 응답값을 확인하는 클레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CardInfoBridge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 선택시에만 사용되는 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WideViewPort(true) : devic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보이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화면을 와이드하게 확대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ebChromeClient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능을 사용할 수 있도록 선언되었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WebViewClient : WebViewClien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상속받아 구현되었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하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판단하여 분기처리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클레스 및 함수 상세 설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_scheme_intent(String url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해당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n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이용하여 호출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WebViewClient : web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서 호출되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메일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화번호는 자동연결을 막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주소를 판단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oad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 방식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nt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방식으로 나누어 분기처리하여 호출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CardInfoBridge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 결제시 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을 호출 전에 카드정보와 결제방식 정보를 전역변수에 저장하고 앱을 호출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Bridge : devic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 설치되어있는 모든 앱을 확인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의 설치여부를 판단하여 설가 되어있으면 앱을 호출하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되어있지 않으면 안드로이드 마켓을 호출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 설치를 유도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inishActivity(String p_strFinishMsg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ctivit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종료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eckFrom() : 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 종료 후 호출되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pproval_ke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값을 전달하여 결제를 진행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etPaypinInfo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어플이 설치 되어 있는지 확인 하는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aypinConfim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설치화면 이동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etConfirm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결제 완료 또는 취소를 확인 하는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Restar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타 앱에서 복귀했을 때 호출되어 전역클레스에 값이 전달되었는지 확인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ResultRcvActivit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의해 값이 전역클레스에 정상적으로 전달되었을경우에는 결제를 진행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아닌경우에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heckFrom(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함수가 실행되어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제가 정상적으로 처리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40"/>
          <p:cNvSpPr/>
          <p:nvPr/>
        </p:nvSpPr>
        <p:spPr>
          <a:xfrm>
            <a:off x="554760" y="3333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PayDemoActiv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82560" y="847800"/>
          <a:ext cx="7993080" cy="104148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 상세설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마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sample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에 의해 호출되며 타앱에서 보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nt Data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을 전역클레스에 전달한 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끝낸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yApp.b_typ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ru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로 만들어야 페이핀 어플에서 값을 받은 걸로 판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40"/>
          <p:cNvSpPr/>
          <p:nvPr/>
        </p:nvSpPr>
        <p:spPr>
          <a:xfrm>
            <a:off x="573120" y="3333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ResultRcvActiv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2560" y="847800"/>
          <a:ext cx="7993080" cy="314316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얼 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테스트 결제결과 웹 호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devpggw.kcp.co.kr:81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얼 결제결과 웹 호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서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pggw.kcp.co.k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신서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smpay.kcp.co.k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40"/>
          <p:cNvSpPr/>
          <p:nvPr/>
        </p:nvSpPr>
        <p:spPr>
          <a:xfrm>
            <a:off x="868320" y="3333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개발시 유의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6:59:01Z</dcterms:created>
  <dc:creator>polaris</dc:creator>
  <dc:description/>
  <dc:language>en-US</dc:language>
  <cp:lastModifiedBy>민수</cp:lastModifiedBy>
  <dcterms:modified xsi:type="dcterms:W3CDTF">2013-08-05T06:03:25Z</dcterms:modified>
  <cp:revision>65</cp:revision>
  <dc:subject/>
  <dc:title>슬라이드 1</dc:title>
</cp:coreProperties>
</file>